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7F5-05EB-4341-81B5-E2557C88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A1B-ECFE-4AA7-BDD4-9A0975EE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C59-60AD-4F57-B7A6-74AB658D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BD33-1875-4655-8972-1A9D3C80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1C4-BD7E-4192-B89B-6121427B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AE8-29D4-4C97-AFC1-C1623896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FC5-AB61-4102-A536-990DA0C0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C8E-3C43-4EFE-A007-CA1E57AA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0E0-8C23-415D-99F5-A4885CB7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CC8-A5EE-43F4-B7A1-84922ACB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60F-B15A-47A5-A1E2-697D2E50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B615-90F4-44C7-BB4C-8A47B01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21EC-2C51-43B9-B5BE-9FD876864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324840" cy="3108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384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WordArt 144"/>
          <p:cNvSpPr txBox="1"/>
          <p:nvPr/>
        </p:nvSpPr>
        <p:spPr>
          <a:xfrm>
            <a:off x="1752480" y="30492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toJ Quizzes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5105520"/>
          <a:ext cx="6248520" cy="1125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quewatr 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hjsdfsad   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41:00Z</dcterms:created>
  <dc:creator>St. Mary's High School</dc:creator>
  <dc:description/>
  <dc:language>en-US</dc:language>
  <cp:lastModifiedBy>Lenny Vermaas</cp:lastModifiedBy>
  <dcterms:modified xsi:type="dcterms:W3CDTF">2009-06-15T16:55:49Z</dcterms:modified>
  <cp:revision>12</cp:revision>
  <dc:subject/>
  <dc:title>Slide 1</dc:title>
</cp:coreProperties>
</file>